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21A-9BD7-4177-A8A7-1E61933A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588-72AF-4CD0-82ED-F4EAE669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17F-17AA-40AB-B913-9A1C2E75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210-0611-4346-BAA0-CA3A48C9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E1EF-86C4-4003-B6E3-BB164740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05D3-F551-4A71-8871-8FA449CB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E658-31AA-4D2D-903E-8AAF5C0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FB74-15DB-44B4-9D78-D226D129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8642-E032-4EC0-9B0A-9C8B1C3D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9C60-ABE0-4140-9BF0-F1BD3A24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5D04-E142-4A02-835B-C5836FAD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5C4-569E-401A-8258-BF5FD674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EBB3-0C1C-43E3-9CE9-5C1EB01D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450E-13C6-47C3-AA93-1EBC85A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9267-CEAE-49D0-B506-01D65BF2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588B-B7E9-4B31-9165-BA93A430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E93C-07A2-45B5-8C8B-490CD96F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27A-F5E5-40B6-810F-F5E6F05E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57A-A8D5-4950-839B-61B53191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336-C0C3-486C-BAFD-7107D969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4A7-AB00-4479-AEC3-AB074B1A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A14-5623-4A6C-B6F5-42BE0575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AF8-C9E2-492B-8DA4-603694B0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169-FA41-469B-8F77-46699F88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CF89-880A-40B5-8254-95A7D28C1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8350-6F99-4DBD-8BFC-449FED1C3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917080" y="1068480"/>
            <a:ext cx="325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Raskin"/>
              </a:rPr>
              <a:t>Hurrica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6840" y="2316240"/>
            <a:ext cx="6537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These powerful stor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Are created in the Atlan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Ocean.  They turn clockw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With extremely strong forc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Once They come ashore on land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They Can burst through tow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and Houses with such force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They can wipe them ou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6476760" cy="4268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0120" y="228600"/>
            <a:ext cx="636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2920" y="4648320"/>
            <a:ext cx="842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oding is a major problem caused by hurrica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ce they reach land.  Hurricanes bring huge am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rain as they come from the sea onto the land.  Th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eme amount of rain causes heavy flooding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so destroys homes, businesses, and roa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4240" y="914400"/>
            <a:ext cx="798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nk about what you and your fami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ght do if you lived on the coast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knew a hurricane was approac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3320" y="3321000"/>
            <a:ext cx="75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board up and leave, or 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stay out the storm in your h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51200" y="4768920"/>
            <a:ext cx="704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would you know when the ey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storm was approaching, 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ght over you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32448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120" y="152280"/>
            <a:ext cx="29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rricane Isab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760" y="5607000"/>
            <a:ext cx="70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w!  Look at the clockwise swirl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0773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162920" cy="5486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5886360"/>
            <a:ext cx="85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ok at this hurricane as this ship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7000" y="53532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picture shows just how much damag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urricane can do to the things in its pa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5080" y="5029200"/>
            <a:ext cx="790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y people board up the glass wind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d doors of their homes and busi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they know a hurricane is approac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429520" cy="542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463440" y="295200"/>
            <a:ext cx="25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ok at th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azing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e eye wall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320" y="5791320"/>
            <a:ext cx="87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 do you think this picture was taken fr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934320" cy="4876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5257800"/>
            <a:ext cx="723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 at how strong the winds are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force their way onto the shor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0:46:08Z</dcterms:created>
  <dc:creator>Compaq Customer </dc:creator>
  <dc:description/>
  <dc:language>en-US</dc:language>
  <cp:lastModifiedBy>Rutherford County Schools</cp:lastModifiedBy>
  <dcterms:modified xsi:type="dcterms:W3CDTF">2007-04-21T15:48:43Z</dcterms:modified>
  <cp:revision>4</cp:revision>
  <dc:subject/>
  <dc:title>PowerPoint Presentation</dc:title>
</cp:coreProperties>
</file>